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11B4-ECC6-4228-B4E2-B6A2A0FA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D390-C4C6-4CF0-AB06-E8660D097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C10-0A40-45A7-A564-57EE055DD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E71F-881E-4A0C-8C57-8B6DE5EA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F5A-3C22-4D90-871E-DF5C10CC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E054-4AE7-454F-879F-6732EEDA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95A4-C40D-4832-A244-040CEDA0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7291-1D5F-452D-8D96-CCD4FC30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5888-B3F0-42D5-94B5-215B3BE1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159D-438A-4303-BB33-0183E53F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A3A-BC29-4797-A3E6-9C3A82C1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0774-581D-4669-A831-C7C10668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001D-55B4-44A7-8A51-A680457B3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abyhi" descr=""/>
          <p:cNvPicPr/>
          <p:nvPr/>
        </p:nvPicPr>
        <p:blipFill>
          <a:blip r:embed="rId1"/>
          <a:stretch/>
        </p:blipFill>
        <p:spPr>
          <a:xfrm>
            <a:off x="4724280" y="3048120"/>
            <a:ext cx="3619800" cy="31636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066680" y="762120"/>
            <a:ext cx="335304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Baby,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I’ve got you under my skin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ve_003" descr=""/>
          <p:cNvPicPr/>
          <p:nvPr/>
        </p:nvPicPr>
        <p:blipFill>
          <a:blip r:embed="rId2"/>
          <a:stretch/>
        </p:blipFill>
        <p:spPr>
          <a:xfrm>
            <a:off x="5638680" y="797040"/>
            <a:ext cx="1371600" cy="1164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28800" y="376200"/>
            <a:ext cx="4572000" cy="65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Helen Steiner R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wee bit of heave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rifted down from above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andful of happines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eartful of l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ystery of lif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sacred and sweet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giver of joy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deep and com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cious and priceless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 lovable, too -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world's sweetest miracle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by, is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3333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by Steps Publish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especially for you b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ndi Cald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05:32:09Z</dcterms:created>
  <dc:creator>Marty Caldwell</dc:creator>
  <dc:description/>
  <dc:language>en-US</dc:language>
  <cp:lastModifiedBy>Marty Caldwell</cp:lastModifiedBy>
  <dcterms:modified xsi:type="dcterms:W3CDTF">2007-02-14T05:32:19Z</dcterms:modified>
  <cp:revision>1</cp:revision>
  <dc:subject/>
  <dc:title>PowerPoint Presentation</dc:title>
</cp:coreProperties>
</file>